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0E3-0306-42E5-9312-9A597564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781-FD30-4809-83C3-E8427021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45F-5A71-49E0-9DD1-0EC11BF1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0E6-E6A7-4796-B8B8-2BF13523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712-8C63-411F-9D60-DCA4AB80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52A-E6F1-4A24-8BEC-28C3029F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2E1-DD3F-480B-AA7D-69ACF301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F6C-246E-49DE-959D-D7113BDE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61B-E79B-4B2A-9225-130927F1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2ED-A9B7-4DFA-87E3-05274CC9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C83-1BB4-49FE-B9A9-E30115D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7AE-B6EE-402E-A861-821E2A0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6E5A-2420-4B40-BA0C-65496C098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9:12:52Z</dcterms:created>
  <dc:creator>jweiss</dc:creator>
  <dc:description/>
  <dc:language>en-US</dc:language>
  <cp:lastModifiedBy>jweiss</cp:lastModifiedBy>
  <dcterms:modified xsi:type="dcterms:W3CDTF">2008-10-24T19:12:57Z</dcterms:modified>
  <cp:revision>1</cp:revision>
  <dc:subject/>
  <dc:title>blah</dc:title>
</cp:coreProperties>
</file>